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585E-53B9-4C82-8E59-DC5B9044F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titorul nostru ne-a dat posibilitatea de a avea viata vesnica in R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1F0-63C2-45D9-9B80-B7905FDC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3CE-B6C3-43A6-B461-8B60D0BC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748-500D-4C11-889E-D64515B8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3F3-B133-47DD-A9F3-A4D9FA8A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FE0-FB08-4651-91E8-41C65F83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709-2451-4487-962D-2723B793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B5A-B574-49D7-9A72-975F359C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F06-7C0E-40EE-B3DC-55A9BA73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B55-6BA0-499A-8E01-2E2213F7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E3D-62AE-4AAA-A79C-6064E48E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7EE-F1D0-48EC-95F7-5FB70A5E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CFE-1D9B-4FEB-A5DD-71DD976D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1D09-EC28-4726-99B4-B99F0AC3E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e este Iisus Hris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 stim despre 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8000" y="4653000"/>
            <a:ext cx="22957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TE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 a nascut la Betleem in anul 1 din Fecioara 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2941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IL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pilarit in cetatea Naza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039760"/>
            <a:ext cx="45370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ATATOR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tatura Sa dumnezeasca se afla in Bib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22827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DUL PA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vaduit dragostea fata de Dumnezeu si oam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2664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TIGNI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st rastignit pe Cruce in Ierusalim pe Golgota fara vina pentru mintuirea sufletelor noa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816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IE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nviat a 3-a zi facand cea mai mare minune a lumii fapt care a determinat o puternica credinta cea cres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3887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AL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a 40 de zile S-a Inaltat la cer in prezenta Apostol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3240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6:25:58Z</dcterms:created>
  <dc:creator>cursant</dc:creator>
  <dc:description/>
  <dc:language>en-US</dc:language>
  <cp:lastModifiedBy>cursant</cp:lastModifiedBy>
  <dcterms:modified xsi:type="dcterms:W3CDTF">2010-09-02T08:28:11Z</dcterms:modified>
  <cp:revision>3</cp:revision>
  <dc:subject/>
  <dc:title>Cine este Iisus Hristos?</dc:title>
</cp:coreProperties>
</file>